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8.jpeg" ContentType="image/jpeg"/>
  <Override PartName="/ppt/media/image17.gif" ContentType="image/gif"/>
  <Override PartName="/ppt/media/image3.png" ContentType="image/png"/>
  <Override PartName="/ppt/media/image16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6B76-F012-45A1-BD4E-67AF41BA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069C-66FF-4E55-9BEE-210A57F4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092D9-4895-4DA5-ACDB-3F568145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11F42-5195-435E-9931-1A092E3D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A1F57-B1FE-45A8-AEB4-EAB5DBFA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FE4BA-6747-43EC-9C00-78443662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AE3F3-79C8-4A67-95C1-58766A0E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7FA5E-42FF-4B40-9F39-18E2400E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70057-2278-45DA-A735-84186C09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B662C-59B9-4422-8BF6-0B39D0A75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99AF9-57FB-44A3-9142-E246364F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8370E-CD41-4EB1-9539-783A2977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EA48-4DBE-46E3-9EEA-DC37BDC0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A52A6-B800-4FB5-ACEC-70C4EFE4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62825-B771-47B2-8929-0554EA92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1F805-3295-4754-898E-65008959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34DD2-8382-4ABE-B875-44B4BEDC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8FEAC-391C-4998-9BC6-16057020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DF78D-F09F-4CBD-BD1F-4C7B70A1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8B210-29BC-41CE-B08B-54D4D5C9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A0B0D-C94E-42DD-991F-6C651BD8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CF2964-B97A-4F85-B42D-50B1E516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62CD5-1302-477E-A994-C4E5D385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CC76-4BEB-4117-9065-53F3FF154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7F90F-69BE-4A3C-95F3-E193331C7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AD36-C0CA-4886-BB56-1DB34EE9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26D3-DEBE-4480-B04B-956A35DD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8EA2-8B49-4A79-8709-E6E0894C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1A41-88E2-4F05-81CC-D31B255D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48D5-F621-4FCD-85B7-888583AE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9714-AC9B-45B4-AD26-FAC089AE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3231-B536-4FA0-BF10-A6DB1D87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5B0F-CCA9-4EB5-9FBD-835A87FD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53CE-1D06-4B7C-BC1F-E9D3E3EB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D4E9-808F-490C-B0F5-5EF0B481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C729-C442-4418-985A-00856BED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0D1A-99BA-467F-9EE1-76F8A1B5B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1756-DFA7-458E-95A4-FA076A3B4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68247-D260-4188-9DC9-FE151206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C9D6A-81CA-4C37-BF64-C0629314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E4501-1F32-4449-869C-A54ACC33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588CD-F1E6-4FED-81B8-F792BB51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0C54D-4661-42E8-A36C-13FBD19D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96FD-CD7A-44C8-8B8C-EBFF5356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A6CE6-9DA5-4920-842E-21964098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5CAEE-DCC0-421F-9622-96FC2173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632E3-F6F2-4DCC-8ACA-B9F6F95A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E58F6-A512-4AF5-8A1C-98A86E0F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0BFC0-481C-4B0F-97AA-326D392F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D1736-8DD9-4D0D-8BB3-16213940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B04BC-3D14-4064-8355-6385701CF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D413C4-7A91-41A8-9904-4260A400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0E3908-9637-427B-B21C-CDA8547E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2A05EE-1CE2-4019-ACA4-FC4E4185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13CC-94E9-49F9-A715-D4FF6681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568B00-937B-4D93-87D8-2F6482E8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3C2223-DE2F-4A5A-B952-249497A8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932BCA-0FEB-4C3A-A913-AA05098A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D78313-3D71-43AF-8C46-53170B4E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937E4E-54D1-444A-A701-482CD246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F790FA-921A-4EA6-BB16-1344F41E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31EEC5-B620-48EA-8917-92EF7AE5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33C741-8D1D-4CF3-9F6F-2F49A0469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82F738-FA20-4A0D-837E-C0C0235E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D43BD-D7B6-4553-B35F-8682A86A5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E0A5-1D3C-4BD5-BB80-A2A6B8A8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B6077-FC11-4E79-8DAC-825F667F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C6694-125C-4395-A6F1-A37E0882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0F66E-0B53-4F01-AC1B-329B1153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1D67E-CBF1-49B0-8484-2D17471C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FE160-9AB0-4D11-913A-50900299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C2492-99BA-4EFB-BABB-03A333BE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84EFB-B301-4F3D-85B0-E118DBE6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AC424-792E-4B1C-B96C-87B5BD4E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9358F-03A9-42B3-B985-4800C9E9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D6F65-413F-4EF5-9379-6DB8EB9DC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02D5-6FBD-4DAA-97D7-B19DA21B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AC725-7D28-4E8A-8073-73217B4C1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C8A11-8782-4BF4-9F50-DB98A437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0A441-3E80-4F6F-A7B5-D772D433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08A0E-E82B-4354-8C9D-3A2E4560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944B0-C4C9-4F4D-8BCE-ED60CAC4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9F6BE-A438-4A30-A299-F178FCC8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BFFA9-F7D8-4BDD-A085-3E069D39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A7495-751F-4F6D-85B7-23CB097B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50BD0-7B3A-4433-A17A-D4E6A5DA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9E555-EC01-4CCB-8335-433869A0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1398-729D-45E3-8404-069F438E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0F0AE-1D25-4176-9D86-7AB5212E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28D71-D61A-4826-A6C4-A0AF3E0DE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959D4-9AEE-4FFC-AB13-AAE4FA8B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21CF9-D2D8-4B18-8674-0EFA8FC11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1C515-468F-4441-8CCC-577423E8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EE665-16C8-4841-9DB0-CEDC6A75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CE631-55F7-49D1-9C25-C65ECCD2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07B36-612D-4A30-8559-90E41461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2B8E3-F2EE-452F-BDDD-B89162CB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4122E-FC01-4D28-98FD-6F741AA4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036F-E383-468D-87BA-E6246082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DB135-5D9F-45CF-83F4-D7EA88A6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C8301-F203-4C52-B245-BD127928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C6223-6A44-4976-B20F-4EB0DC8B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2F985-C34F-47D6-8848-1202C24F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3DB46-6795-4DE9-A542-A91B30895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CD2DD-005A-4156-B586-3461D5A8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DE665-543D-41CB-8438-034118DF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BCFBB-5C95-410E-A056-07A76C58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5AFC7-FD56-401B-971B-D4836548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7DEB9-309B-4D20-938E-6B1D9DE3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2B61-405B-4550-B054-AD584664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3B50E-A5D4-4B60-AFC7-C6A11E59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A1F14-8E20-46AA-87EA-0787A2DC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6E73C-BCF0-43BE-8FBA-71A1C4A8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3D62A-2C03-4935-8641-6C4304C1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6700C-6D48-48AA-963D-4A5108FF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A1264-91BD-4A1F-ABD9-BBCFF3D6D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60912-F1F1-4C07-AA17-63EE3F042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F96BE-5E68-4B9E-8F35-E35280BEF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6A5F9-4F20-49AB-A597-E0FB6E6C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B19F9-5291-4B5F-85EF-F49A8E84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303D-9EB5-48B0-9337-1674A404E2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9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87E4-B8C6-4389-898F-E12368BC7C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59DD-AC6D-4D56-8B25-5BC4A1C3F3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2FAE-1037-4BD6-AE09-9FA750984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BAEC-DF94-4C35-A9C8-407F4420E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74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8E71-9EB2-47B9-855E-D765C9FEC3B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3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97FB-1877-432E-83E0-7690A832281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87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00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D18D-1654-41E0-943D-36682E8F35D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67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80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A1C5-8D54-435A-A442-061F845B651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4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F991-BA2C-484A-8E89-79DB16BC47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1403280" y="573408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826920" y="836640"/>
            <a:ext cx="7274160" cy="330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Қазақтың ұлттық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йындар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7d47d"/>
                </a:solidFill>
                <a:latin typeface="Arial"/>
              </a:rPr>
              <a:t>                     </a:t>
            </a:r>
            <a:r>
              <a:rPr b="1" i="1" lang="kk-KZ" sz="7200" spc="-1" strike="noStrike">
                <a:solidFill>
                  <a:srgbClr val="f7d47d"/>
                </a:solidFill>
                <a:latin typeface="Arial"/>
              </a:rPr>
              <a:t>Омпы</a:t>
            </a:r>
            <a:endParaRPr b="0" lang="en-US" sz="7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5256360" cy="5661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i="1" lang="kk-KZ" sz="6600" spc="-1" strike="noStrike">
                <a:solidFill>
                  <a:srgbClr val="ffffff"/>
                </a:solidFill>
                <a:latin typeface="Tahoma"/>
              </a:rPr>
              <a:t>Атбақыл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2484360" y="1773360"/>
            <a:ext cx="37432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1116000" y="1390680"/>
            <a:ext cx="712800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360036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57336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3"/>
          <a:stretch/>
        </p:blipFill>
        <p:spPr>
          <a:xfrm>
            <a:off x="0" y="3573360"/>
            <a:ext cx="4427640" cy="328464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4"/>
          <a:stretch/>
        </p:blipFill>
        <p:spPr>
          <a:xfrm>
            <a:off x="4427640" y="3532320"/>
            <a:ext cx="471636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cc"/>
                </a:solidFill>
                <a:latin typeface="Arial"/>
              </a:rPr>
              <a:t>Сөзді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Қой сүйегі - положение альчиков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Үйіру - сбрасыват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Ұпай - очк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Кезек - очеред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Тимей қалса - если не попаде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Қос–уыс - пригорошн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Қозғап кетсе  - если сдвине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Басқа асыққа соғылса - если заденет другой альчик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Бір-біріне тимесе - если не попадет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cc"/>
                </a:solidFill>
                <a:latin typeface="Arial"/>
              </a:rPr>
              <a:t>Кестемен жұмыс істейді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457200" y="1600200"/>
          <a:ext cx="8229240" cy="4530240"/>
        </p:xfrm>
        <a:graphic>
          <a:graphicData uri="http://schemas.openxmlformats.org/drawingml/2006/table">
            <a:tbl>
              <a:tblPr/>
              <a:tblGrid>
                <a:gridCol w="1645920"/>
                <a:gridCol w="1645920"/>
                <a:gridCol w="1645560"/>
                <a:gridCol w="1645920"/>
                <a:gridCol w="1645920"/>
              </a:tblGrid>
              <a:tr h="45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Балалар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ан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сық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ан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Боялған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сық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сықтың түр түрінен айтылуы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йынның бұзылуы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4" name=""/>
          <p:cNvSpPr/>
          <p:nvPr/>
        </p:nvSpPr>
        <p:spPr>
          <a:xfrm>
            <a:off x="468360" y="2205000"/>
            <a:ext cx="8207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11280" y="2565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4-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268360" y="256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10 -11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924360" y="25574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Хан - 1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435640" y="2205000"/>
            <a:ext cx="158436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Ш</a:t>
            </a: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ік шігімен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Бүк бүгімен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Тәйке тәйкемен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Алшы алшымен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164360" y="234936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164360" y="22766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020000" y="2276640"/>
            <a:ext cx="16556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Басқа асыққа соғылс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Бір біріне тимес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Басқа асықты қозғап кетс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cc"/>
                </a:solidFill>
                <a:latin typeface="Arial"/>
              </a:rPr>
              <a:t>Үй тапсырмас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kk-KZ" sz="2800" spc="-1" strike="noStrike">
                <a:solidFill>
                  <a:srgbClr val="eaeaea"/>
                </a:solidFill>
                <a:latin typeface="Courier New"/>
              </a:rPr>
              <a:t>90 бетте мәтінді оқып, әңгімелеу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2700360" y="3213000"/>
            <a:ext cx="32400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09:33:07Z</dcterms:created>
  <dc:creator>Admin</dc:creator>
  <dc:description/>
  <dc:language>en-US</dc:language>
  <cp:lastModifiedBy>13</cp:lastModifiedBy>
  <dcterms:modified xsi:type="dcterms:W3CDTF">2009-02-05T08:47:53Z</dcterms:modified>
  <cp:revision>6</cp:revision>
  <dc:subject/>
  <dc:title>Қазақ ұлттық  ойындары.</dc:title>
</cp:coreProperties>
</file>